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45.wmf" ContentType="image/x-wmf"/>
  <Override PartName="/ppt/media/image35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38.wmf" ContentType="image/x-wmf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6.wmf" ContentType="image/x-wmf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Dotum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ot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054E-E01F-475B-8300-706FCF29ADD7}" type="slidenum">
              <a:rPr b="0" lang="ru-RU" sz="1200" spc="-1" strike="noStrike">
                <a:solidFill>
                  <a:srgbClr val="000000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7BDC-7500-4A67-B8BB-AA99305BE64E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530-8D1E-4191-B19F-4CA36BD3B0AA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08AD-61DA-4CBA-A31C-672943E5BD63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6628-E4E1-4CDE-95F4-4A0177F8D283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BAD-DB9A-4040-9716-7AFB40BE953A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A5FE-CD36-4E54-B2D7-CECD56DD3D05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0817-4F10-4352-830C-35467CEFBB36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2679-BD60-412B-ACEF-2141BEE55D74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3DB8-4EBA-4654-B91D-1771BD49EF09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6969-C473-4D81-83F6-93A6B1DBB2E2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306D-28CE-4681-9EA4-0CAAD6D13292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0994-5444-43E1-8363-D2722074DDF6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734B-DD9F-43AA-BE26-5A71C6B984BD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C5D1-12C5-4F12-BD5B-CCA21038303E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B2E-5E1D-42A0-8676-F8F1BC633F82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D013-EEB7-41C9-BBD5-EAB65066353D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CF7C-5654-4C0B-8C02-BD3A5CEEEC45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356E-27E6-4BCD-8616-444B1D028485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5C8D-F48D-4D09-821F-8FDC188BF709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0C6A-F6A6-4DFC-9BF3-21BDFA3C4EFA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37D-BADB-400A-8EA6-0947B4AA21EE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CCFC-789A-4542-A2F3-D99FBD725181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07D-EE90-47C2-B7F9-5B3F667DCD0D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38BC-857E-4F8F-BC35-6D24E82265B5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65E5-63A2-4926-8C08-1CB3BA993C5F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37B-A667-401A-9B61-739B08BA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2CA-A2D6-4AA7-A4BA-605F7701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1B5-DDCF-42CC-A759-A20E2A95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1EB-E8AC-412E-8E51-43D6D2D0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0512-E43C-48CD-84D4-E1CEBE32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CD39-6BAC-4EF0-8CA8-3D487AEF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79B1-F83A-4FF4-9361-DAA2A77C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C283-DB62-499D-88F5-3A9C6A41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6DB5-082E-449D-950D-0157AF10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296B-6286-4F91-9628-5EC52E71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F8D9-07F1-40DB-A496-9295EF4A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4E8-E87E-4FE4-8C47-437D34AD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117B-61D2-4619-9270-A4F17F22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5809-5002-49CD-A6B1-ED31555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FC07-AFCA-464C-8F53-FC35467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F220-BC67-45FE-90B8-580D7DC3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22EF-4613-4BF4-8CFF-986C28BE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7FC-90C6-4B5B-9380-8B30E413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968-78A7-4AE7-9E34-B48B5132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84F-6043-4CB4-AF40-B37EC1A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9B1-9CCD-44B0-B4D8-E24F4957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7B8-AD58-49D3-90B6-7A9A626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630-1ECC-4CAF-8447-77D91058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1C5-B64F-4364-BE45-E8A6064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03"/>
            </a:gs>
            <a:gs pos="50000">
              <a:srgbClr val="2a2a7e"/>
            </a:gs>
            <a:gs pos="100000">
              <a:srgbClr val="0101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Dotum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Dot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Dot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Dot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Dot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261D-42DF-4194-91AF-8252F10C45B0}" type="slidenum">
              <a:rPr b="0" lang="en-US" sz="14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03"/>
            </a:gs>
            <a:gs pos="50000">
              <a:srgbClr val="2a2a7e"/>
            </a:gs>
            <a:gs pos="100000">
              <a:srgbClr val="0101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Dotum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Dot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Dot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Dot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Dot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FB69-DB30-4D1B-966D-8CE3E18B9C97}" type="slidenum">
              <a:rPr b="0" lang="en-US" sz="14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71071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30280" y="1944360"/>
            <a:ext cx="7593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7720" indent="-40932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40968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0968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40968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73200" indent="-40968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73200" indent="-4096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73200" indent="-4096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18.jpe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png"/><Relationship Id="rId13" Type="http://schemas.openxmlformats.org/officeDocument/2006/relationships/image" Target="../media/image10.jpe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9.png"/><Relationship Id="rId19" Type="http://schemas.openxmlformats.org/officeDocument/2006/relationships/image" Target="../media/image12.jpe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3.xml"/><Relationship Id="rId2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5605560"/>
            <a:ext cx="914400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Центр соціально-економічних досліджень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CASE Украї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2a7e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2a2a7e"/>
                </a:solidFill>
                <a:latin typeface="Arial"/>
              </a:rPr>
              <a:t>case-ukraine.com.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caselogo2"/>
          <p:cNvPicPr/>
          <p:nvPr/>
        </p:nvPicPr>
        <p:blipFill>
          <a:blip r:embed="rId1"/>
          <a:stretch/>
        </p:blipFill>
        <p:spPr>
          <a:xfrm>
            <a:off x="0" y="5562720"/>
            <a:ext cx="197964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0" y="228600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2a7e"/>
                </a:solidFill>
                <a:latin typeface="Arial"/>
              </a:rPr>
              <a:t>«Реформи» на півдороз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727280" y="40100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ff"/>
                </a:solidFill>
                <a:latin typeface="Arial"/>
              </a:rPr>
              <a:t>Володимир Дубровсь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597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8b00"/>
                </a:solidFill>
                <a:latin typeface="Arial"/>
              </a:rPr>
              <a:t>КРУГЛИЙ СТІ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8b00"/>
                </a:solidFill>
                <a:latin typeface="Arial"/>
              </a:rPr>
              <a:t>«Два роки змін: що з цього реформи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b00"/>
                </a:solidFill>
                <a:latin typeface="Arial"/>
              </a:rPr>
              <a:t>17 жовтня 2012 року, м.Ки</a:t>
            </a:r>
            <a:r>
              <a:rPr b="0" lang="uk-UA" sz="2400" spc="-1" strike="noStrike">
                <a:solidFill>
                  <a:srgbClr val="fe8b00"/>
                </a:solidFill>
                <a:latin typeface="Arial"/>
              </a:rPr>
              <a:t>ї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Ринок земл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Содержимое 6"/>
          <p:cNvSpPr/>
          <p:nvPr/>
        </p:nvSpPr>
        <p:spPr>
          <a:xfrm>
            <a:off x="200160" y="1295280"/>
            <a:ext cx="894384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Оскіль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Процес непрозо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Дискусія номінальна, суто формаль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Проходить під керівництвом непопулярної вл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Та під великим впливом зацікавленого бізнесу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Прості громадяни уявляють собі реформу приблизно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3660"/>
          <p:cNvPicPr/>
          <p:nvPr/>
        </p:nvPicPr>
        <p:blipFill>
          <a:blip r:embed="rId2"/>
          <a:stretch/>
        </p:blipFill>
        <p:spPr>
          <a:xfrm>
            <a:off x="2332080" y="3598920"/>
            <a:ext cx="44528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Ринок земл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Содержимое 6"/>
          <p:cNvSpPr/>
          <p:nvPr/>
        </p:nvSpPr>
        <p:spPr>
          <a:xfrm>
            <a:off x="200160" y="1295280"/>
            <a:ext cx="894384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І, відповідно, діятимуть приблизно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64910021_Taschi"/>
          <p:cNvPicPr/>
          <p:nvPr/>
        </p:nvPicPr>
        <p:blipFill>
          <a:blip r:embed="rId2"/>
          <a:stretch/>
        </p:blipFill>
        <p:spPr>
          <a:xfrm>
            <a:off x="1335240" y="2136600"/>
            <a:ext cx="64465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7"/>
          <p:cNvGrpSpPr/>
          <p:nvPr/>
        </p:nvGrpSpPr>
        <p:grpSpPr>
          <a:xfrm>
            <a:off x="3351240" y="3219480"/>
            <a:ext cx="2415960" cy="1625400"/>
            <a:chOff x="3351240" y="3219480"/>
            <a:chExt cx="2415960" cy="1625400"/>
          </a:xfrm>
        </p:grpSpPr>
        <p:pic>
          <p:nvPicPr>
            <p:cNvPr id="239" name="Picture 6" descr="online"/>
            <p:cNvPicPr/>
            <p:nvPr/>
          </p:nvPicPr>
          <p:blipFill>
            <a:blip r:embed="rId1"/>
            <a:stretch/>
          </p:blipFill>
          <p:spPr>
            <a:xfrm>
              <a:off x="3357360" y="3219480"/>
              <a:ext cx="2403360" cy="162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16"/>
            <p:cNvGrpSpPr/>
            <p:nvPr/>
          </p:nvGrpSpPr>
          <p:grpSpPr>
            <a:xfrm>
              <a:off x="3351240" y="3225960"/>
              <a:ext cx="2415960" cy="1618560"/>
              <a:chOff x="3351240" y="3225960"/>
              <a:chExt cx="2415960" cy="1618560"/>
            </a:xfrm>
          </p:grpSpPr>
          <p:pic>
            <p:nvPicPr>
              <p:cNvPr id="241" name="Picture 10" descr="138-20-01"/>
              <p:cNvPicPr/>
              <p:nvPr/>
            </p:nvPicPr>
            <p:blipFill>
              <a:blip r:embed="rId2"/>
              <a:stretch/>
            </p:blipFill>
            <p:spPr>
              <a:xfrm>
                <a:off x="3351240" y="4304520"/>
                <a:ext cx="120816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1" descr="138-20-01"/>
              <p:cNvPicPr/>
              <p:nvPr/>
            </p:nvPicPr>
            <p:blipFill>
              <a:blip r:embed="rId3"/>
              <a:stretch/>
            </p:blipFill>
            <p:spPr>
              <a:xfrm>
                <a:off x="4559400" y="3225960"/>
                <a:ext cx="120780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2" descr="138-20-01"/>
              <p:cNvPicPr/>
              <p:nvPr/>
            </p:nvPicPr>
            <p:blipFill>
              <a:blip r:embed="rId4"/>
              <a:stretch/>
            </p:blipFill>
            <p:spPr>
              <a:xfrm>
                <a:off x="3351240" y="3230280"/>
                <a:ext cx="120816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13" descr="138-20-01"/>
              <p:cNvPicPr/>
              <p:nvPr/>
            </p:nvPicPr>
            <p:blipFill>
              <a:blip r:embed="rId5"/>
              <a:stretch/>
            </p:blipFill>
            <p:spPr>
              <a:xfrm>
                <a:off x="4559400" y="3762000"/>
                <a:ext cx="120780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4" descr="138-20-01"/>
              <p:cNvPicPr/>
              <p:nvPr/>
            </p:nvPicPr>
            <p:blipFill>
              <a:blip r:embed="rId6"/>
              <a:stretch/>
            </p:blipFill>
            <p:spPr>
              <a:xfrm>
                <a:off x="4559400" y="4299120"/>
                <a:ext cx="120780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15" descr="138-20-01"/>
              <p:cNvPicPr/>
              <p:nvPr/>
            </p:nvPicPr>
            <p:blipFill>
              <a:blip r:embed="rId7"/>
              <a:stretch/>
            </p:blipFill>
            <p:spPr>
              <a:xfrm>
                <a:off x="3351240" y="3762000"/>
                <a:ext cx="1208160" cy="54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7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Зона вільної торгівлі з ЕС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алено з політичних прич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8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129384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Підписання договору готувалося наполегливо та лобіювалося потужними інтересами бізнес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532px-EU_flag-map"/>
          <p:cNvPicPr/>
          <p:nvPr/>
        </p:nvPicPr>
        <p:blipFill>
          <a:blip r:embed="rId9"/>
          <a:stretch/>
        </p:blipFill>
        <p:spPr>
          <a:xfrm>
            <a:off x="5794200" y="2281320"/>
            <a:ext cx="3349800" cy="337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FlagMap_of_Ukraine"/>
          <p:cNvPicPr/>
          <p:nvPr/>
        </p:nvPicPr>
        <p:blipFill>
          <a:blip r:embed="rId10"/>
          <a:stretch/>
        </p:blipFill>
        <p:spPr>
          <a:xfrm>
            <a:off x="279360" y="3056040"/>
            <a:ext cx="3048120" cy="20667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8"/>
          <p:cNvSpPr/>
          <p:nvPr/>
        </p:nvSpPr>
        <p:spPr>
          <a:xfrm>
            <a:off x="0" y="57135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… </a:t>
            </a:r>
            <a:r>
              <a:rPr b="0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але було принесене в жертву бажанню позбутися політичної конкурен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Закон про державні закупівл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Вихолоще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-12600" y="1102680"/>
            <a:ext cx="9144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Був свого часу символом рефо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Виключення зроблено для Євро-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Залишений виключно для прямих бюджетних закупів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Що далі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6" descr="11392___jpg____1305397858_c67f7366"/>
          <p:cNvPicPr/>
          <p:nvPr/>
        </p:nvPicPr>
        <p:blipFill>
          <a:blip r:embed="rId2"/>
          <a:stretch/>
        </p:blipFill>
        <p:spPr>
          <a:xfrm>
            <a:off x="2021040" y="2631960"/>
            <a:ext cx="50767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5000" y="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5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одаткову реформу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Зведено до технічних покращень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Які не працюють без 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системних змі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одержимое 6"/>
          <p:cNvSpPr/>
          <p:nvPr/>
        </p:nvSpPr>
        <p:spPr>
          <a:xfrm>
            <a:off x="281160" y="1295280"/>
            <a:ext cx="871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Оскільки плани з “мобілізації” податків не скасовано (як передбачалося Програмою), 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Взамін повернення ПД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Податкова </a:t>
            </a:r>
            <a:r>
              <a:rPr b="1" lang="uk-UA" sz="24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з менших платників</a:t>
            </a:r>
            <a:r>
              <a:rPr b="1" lang="uk-UA" sz="2400" spc="-1" strike="noStrike" u="sng">
                <a:solidFill>
                  <a:srgbClr val="ff7979"/>
                </a:solidFill>
                <a:uFillTx/>
                <a:latin typeface="Arial"/>
                <a:ea typeface="Arial"/>
              </a:rPr>
              <a:t>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вимагає додаткових платежів з податку на приб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j0285360"/>
          <p:cNvPicPr/>
          <p:nvPr/>
        </p:nvPicPr>
        <p:blipFill>
          <a:blip r:embed="rId2"/>
          <a:stretch/>
        </p:blipFill>
        <p:spPr>
          <a:xfrm>
            <a:off x="5823000" y="2884320"/>
            <a:ext cx="2584440" cy="318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рука"/>
          <p:cNvPicPr/>
          <p:nvPr/>
        </p:nvPicPr>
        <p:blipFill>
          <a:blip r:embed="rId3"/>
          <a:stretch/>
        </p:blipFill>
        <p:spPr>
          <a:xfrm>
            <a:off x="2019240" y="2890800"/>
            <a:ext cx="3836880" cy="257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кукиш"/>
          <p:cNvPicPr/>
          <p:nvPr/>
        </p:nvPicPr>
        <p:blipFill>
          <a:blip r:embed="rId4"/>
          <a:stretch/>
        </p:blipFill>
        <p:spPr>
          <a:xfrm>
            <a:off x="3473280" y="3438360"/>
            <a:ext cx="2171880" cy="21146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3"/>
          <p:cNvSpPr/>
          <p:nvPr/>
        </p:nvSpPr>
        <p:spPr>
          <a:xfrm>
            <a:off x="190440" y="633744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еликі отримують перевагу – монополія закріплюєть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54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итний кодекс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оже спіткати така ж уча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Содержимое 6"/>
          <p:cNvSpPr/>
          <p:nvPr/>
        </p:nvSpPr>
        <p:spPr>
          <a:xfrm>
            <a:off x="281160" y="1295280"/>
            <a:ext cx="871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Оскільки плани з “мобілізації” митних зборів та ПДВ не скасовано (як передбачалося Програмою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А “коригувати” митну вартість стало складні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Митники опинилися між молотом та ковад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І це може обернутися вихолощенням позитивних змі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128cq0"/>
          <p:cNvPicPr/>
          <p:nvPr/>
        </p:nvPicPr>
        <p:blipFill>
          <a:blip r:embed="rId2"/>
          <a:stretch/>
        </p:blipFill>
        <p:spPr>
          <a:xfrm>
            <a:off x="3146400" y="3219480"/>
            <a:ext cx="282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9" descr="D:\boyarchuk\Administration\Projects\Monitoring_unit_TTF\DELIVERIES\July_2012_INTERBUDGETARY\Inter-Budget Pics\other139.jpg"/>
          <p:cNvPicPr/>
          <p:nvPr/>
        </p:nvPicPr>
        <p:blipFill>
          <a:blip r:embed="rId1"/>
          <a:srcRect l="8983" t="0" r="0" b="0"/>
          <a:stretch/>
        </p:blipFill>
        <p:spPr>
          <a:xfrm>
            <a:off x="3143160" y="2436840"/>
            <a:ext cx="2830680" cy="38084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іжюбюжетні відносини: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кладова «обмеженого доступу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одержимое 6"/>
          <p:cNvSpPr/>
          <p:nvPr/>
        </p:nvSpPr>
        <p:spPr>
          <a:xfrm>
            <a:off x="281160" y="1295280"/>
            <a:ext cx="871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Концентрація фінансів у центрі є невід’ємною частиною системи «обмеженого доступу», яка дозволяє всесильному чиновнику у столиці в потрібний момент примушувати регіональну еліту до потрібних посту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0" y="6222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артія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РЕГІОНІВ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обіцяла це змінити – допоки була в опози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3011400" y="2844360"/>
            <a:ext cx="3093840" cy="3135240"/>
            <a:chOff x="3011400" y="2844360"/>
            <a:chExt cx="3093840" cy="3135240"/>
          </a:xfrm>
        </p:grpSpPr>
        <p:sp>
          <p:nvSpPr>
            <p:cNvPr id="280" name="Freeform 10"/>
            <p:cNvSpPr/>
            <p:nvPr/>
          </p:nvSpPr>
          <p:spPr>
            <a:xfrm flipV="1">
              <a:off x="3011400" y="2843640"/>
              <a:ext cx="2992680" cy="298620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flipH="1" flipV="1">
              <a:off x="3112200" y="2993760"/>
              <a:ext cx="2992680" cy="298584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0" y="0"/>
            <a:ext cx="77374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Міжбюджетні відносини: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одальша централізац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6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371600"/>
            <a:ext cx="88567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7720" indent="-409320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однак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уряд в дійсності не хоче відпускати важелі впливу над регіо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D:\boyarchuk\Administration\Projects\Monitoring_unit_TTF\DELIVERIES\July_2012_INTERBUDGETARY\Inter-Budget Pics\leashed2.jpg"/>
          <p:cNvPicPr/>
          <p:nvPr/>
        </p:nvPicPr>
        <p:blipFill>
          <a:blip r:embed="rId2"/>
          <a:stretch/>
        </p:blipFill>
        <p:spPr>
          <a:xfrm>
            <a:off x="5072040" y="2571840"/>
            <a:ext cx="3868920" cy="40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7"/>
          <p:cNvGraphicFramePr/>
          <p:nvPr/>
        </p:nvGraphicFramePr>
        <p:xfrm>
          <a:off x="0" y="3219480"/>
          <a:ext cx="5207040" cy="363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19480"/>
                    <a:ext cx="520704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8"/>
          <p:cNvSpPr/>
          <p:nvPr/>
        </p:nvSpPr>
        <p:spPr>
          <a:xfrm>
            <a:off x="0" y="2395800"/>
            <a:ext cx="45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частка субвенцій і додаткових дотацій у місцевих доход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0" y="0"/>
            <a:ext cx="668196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Накопичувальна пенсійна систе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Реформу у провал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8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Pensioner"/>
          <p:cNvPicPr/>
          <p:nvPr/>
        </p:nvPicPr>
        <p:blipFill>
          <a:blip r:embed="rId2"/>
          <a:stretch/>
        </p:blipFill>
        <p:spPr>
          <a:xfrm>
            <a:off x="5873760" y="1143000"/>
            <a:ext cx="3270240" cy="304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1317634794_pensija"/>
          <p:cNvPicPr/>
          <p:nvPr/>
        </p:nvPicPr>
        <p:blipFill>
          <a:blip r:embed="rId3"/>
          <a:stretch/>
        </p:blipFill>
        <p:spPr>
          <a:xfrm>
            <a:off x="3446640" y="4375080"/>
            <a:ext cx="2673000" cy="2482920"/>
          </a:xfrm>
          <a:prstGeom prst="rect">
            <a:avLst/>
          </a:prstGeom>
          <a:ln w="0">
            <a:noFill/>
          </a:ln>
        </p:spPr>
      </p:pic>
      <p:sp>
        <p:nvSpPr>
          <p:cNvPr id="295" name="Line 7"/>
          <p:cNvSpPr/>
          <p:nvPr/>
        </p:nvSpPr>
        <p:spPr>
          <a:xfrm>
            <a:off x="1547640" y="4343400"/>
            <a:ext cx="1476720" cy="1371600"/>
          </a:xfrm>
          <a:prstGeom prst="line">
            <a:avLst/>
          </a:prstGeom>
          <a:ln w="127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 flipV="1">
            <a:off x="6470640" y="4343400"/>
            <a:ext cx="1406520" cy="1295280"/>
          </a:xfrm>
          <a:prstGeom prst="line">
            <a:avLst/>
          </a:prstGeom>
          <a:ln w="127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9"/>
          <p:cNvGrpSpPr/>
          <p:nvPr/>
        </p:nvGrpSpPr>
        <p:grpSpPr>
          <a:xfrm>
            <a:off x="3165480" y="4267080"/>
            <a:ext cx="3093840" cy="2360880"/>
            <a:chOff x="3165480" y="4267080"/>
            <a:chExt cx="3093840" cy="2360880"/>
          </a:xfrm>
        </p:grpSpPr>
        <p:sp>
          <p:nvSpPr>
            <p:cNvPr id="298" name="Freeform 10"/>
            <p:cNvSpPr/>
            <p:nvPr/>
          </p:nvSpPr>
          <p:spPr>
            <a:xfrm flipV="1">
              <a:off x="3165480" y="4267080"/>
              <a:ext cx="2992680" cy="224856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 flipH="1" flipV="1">
              <a:off x="3266280" y="4379400"/>
              <a:ext cx="2992680" cy="224856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12"/>
          <p:cNvGrpSpPr/>
          <p:nvPr/>
        </p:nvGrpSpPr>
        <p:grpSpPr>
          <a:xfrm>
            <a:off x="6048360" y="1371240"/>
            <a:ext cx="3095280" cy="2360520"/>
            <a:chOff x="6048360" y="1371240"/>
            <a:chExt cx="3095280" cy="2360520"/>
          </a:xfrm>
        </p:grpSpPr>
        <p:sp>
          <p:nvSpPr>
            <p:cNvPr id="301" name="Freeform 13"/>
            <p:cNvSpPr/>
            <p:nvPr/>
          </p:nvSpPr>
          <p:spPr>
            <a:xfrm flipV="1">
              <a:off x="6048360" y="1370520"/>
              <a:ext cx="2994120" cy="224820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4"/>
            <p:cNvSpPr/>
            <p:nvPr/>
          </p:nvSpPr>
          <p:spPr>
            <a:xfrm flipH="1" flipV="1">
              <a:off x="6149880" y="1483200"/>
              <a:ext cx="2993760" cy="224820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3" name="Picture 15" descr="Pensioneryi"/>
          <p:cNvPicPr/>
          <p:nvPr/>
        </p:nvPicPr>
        <p:blipFill>
          <a:blip r:embed="rId4"/>
          <a:stretch/>
        </p:blipFill>
        <p:spPr>
          <a:xfrm>
            <a:off x="0" y="1143000"/>
            <a:ext cx="3657600" cy="30384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6"/>
          <p:cNvSpPr/>
          <p:nvPr/>
        </p:nvSpPr>
        <p:spPr>
          <a:xfrm>
            <a:off x="0" y="5670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«Затягування паск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ів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не допомог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6324480" y="5670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«Д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ірка” у Пенсійному Фонді ЗРОС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7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Фасадна” дерегуляц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potemkin1"/>
          <p:cNvPicPr/>
          <p:nvPr/>
        </p:nvPicPr>
        <p:blipFill>
          <a:blip r:embed="rId2"/>
          <a:stretch/>
        </p:blipFill>
        <p:spPr>
          <a:xfrm>
            <a:off x="1441440" y="2452680"/>
            <a:ext cx="5416560" cy="44053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0" y="1120680"/>
            <a:ext cx="9144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0" lang="uk-UA" sz="2300" spc="-1" strike="noStrike">
                <a:solidFill>
                  <a:srgbClr val="3333cc"/>
                </a:solidFill>
                <a:latin typeface="Arial"/>
                <a:ea typeface="Arial"/>
              </a:rPr>
              <a:t>Скасування ліцензій на більше ніж 90% видів діяльності” звелося до простого трюку: замість дійсно сотень «дрібних» категорій (як, наприклад, «наклеювання шпалер») тепер ліцензується одна загальна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4000" cy="588960"/>
            <a:chOff x="0" y="0"/>
            <a:chExt cx="9144000" cy="588960"/>
          </a:xfrm>
        </p:grpSpPr>
        <p:graphicFrame>
          <p:nvGraphicFramePr>
            <p:cNvPr id="133" name="Object 3"/>
            <p:cNvGraphicFramePr/>
            <p:nvPr/>
          </p:nvGraphicFramePr>
          <p:xfrm>
            <a:off x="8244000" y="0"/>
            <a:ext cx="90000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44000" y="0"/>
                      <a:ext cx="900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Text Box 4"/>
            <p:cNvSpPr/>
            <p:nvPr/>
          </p:nvSpPr>
          <p:spPr>
            <a:xfrm>
              <a:off x="0" y="0"/>
              <a:ext cx="802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Центр соціально-економічних досліджень CASE Украї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Rectangle 5"/>
          <p:cNvSpPr/>
          <p:nvPr/>
        </p:nvSpPr>
        <p:spPr>
          <a:xfrm>
            <a:off x="0" y="734760"/>
            <a:ext cx="876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Реформи - це свідомі дії влади, які ведуть до якісних змін поведінки економічних гравців (самої держави, підприємств та домогосподарств)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2768040"/>
            <a:ext cx="4033800" cy="1709640"/>
          </a:xfrm>
          <a:prstGeom prst="rect">
            <a:avLst/>
          </a:prstGeom>
          <a:gradFill rotWithShape="0">
            <a:gsLst>
              <a:gs pos="0">
                <a:srgbClr val="63c1c1">
                  <a:alpha val="49019"/>
                </a:srgbClr>
              </a:gs>
              <a:gs pos="100000">
                <a:srgbClr val="0099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е решта – це заходи економічної полі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еж іноді важлив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3"/>
          <a:stretch/>
        </p:blipFill>
        <p:spPr>
          <a:xfrm>
            <a:off x="3600360" y="3254400"/>
            <a:ext cx="522612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регуляція </a:t>
            </a:r>
            <a:r>
              <a:rPr b="1" lang="uk-UA" sz="3200" spc="-1" strike="noStrike">
                <a:solidFill>
                  <a:srgbClr val="00cc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одержимое 6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Arial"/>
                <a:ea typeface="Arial"/>
              </a:rPr>
              <a:t>Спрощення реєстрації та скорочення ліценз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8851320" y="6399720"/>
            <a:ext cx="27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6"/>
          <p:cNvSpPr/>
          <p:nvPr/>
        </p:nvSpPr>
        <p:spPr>
          <a:xfrm>
            <a:off x="4430880" y="3276720"/>
            <a:ext cx="28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660240" y="2133720"/>
            <a:ext cx="69771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регуляція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одержимое 6"/>
          <p:cNvSpPr/>
          <p:nvPr/>
        </p:nvSpPr>
        <p:spPr>
          <a:xfrm>
            <a:off x="4222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Arial"/>
                <a:ea typeface="Arial"/>
              </a:rPr>
              <a:t>І все це тільки для того, аби потім піддати перевір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  <a:ea typeface="Arial"/>
              </a:rPr>
              <a:t>…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  <a:ea typeface="Arial"/>
              </a:rPr>
              <a:t>адже саме перевірки є головною зброєю  хабарників, монополізаторів та рейде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8851320" y="6399720"/>
            <a:ext cx="27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6"/>
          <p:cNvSpPr/>
          <p:nvPr/>
        </p:nvSpPr>
        <p:spPr>
          <a:xfrm>
            <a:off x="4430880" y="3276720"/>
            <a:ext cx="28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7" descr="deregulation"/>
          <p:cNvPicPr/>
          <p:nvPr/>
        </p:nvPicPr>
        <p:blipFill>
          <a:blip r:embed="rId2"/>
          <a:stretch/>
        </p:blipFill>
        <p:spPr>
          <a:xfrm>
            <a:off x="797040" y="2158920"/>
            <a:ext cx="6976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еревірки стають дедалі важчи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Object 4"/>
          <p:cNvGraphicFramePr/>
          <p:nvPr/>
        </p:nvGraphicFramePr>
        <p:xfrm>
          <a:off x="-384120" y="2224080"/>
          <a:ext cx="997596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4120" y="2224080"/>
                    <a:ext cx="997596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Малий бізнес вимирає або іде у ті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Object 4"/>
          <p:cNvGraphicFramePr/>
          <p:nvPr/>
        </p:nvGraphicFramePr>
        <p:xfrm>
          <a:off x="0" y="1411200"/>
          <a:ext cx="9002880" cy="544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1200"/>
                    <a:ext cx="900288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Середній бізнес втікає з краї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Безымянныйвпаывпммам"/>
          <p:cNvPicPr/>
          <p:nvPr/>
        </p:nvPicPr>
        <p:blipFill>
          <a:blip r:embed="rId2"/>
          <a:stretch/>
        </p:blipFill>
        <p:spPr>
          <a:xfrm>
            <a:off x="1509840" y="1371600"/>
            <a:ext cx="52797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549440" y="2519280"/>
            <a:ext cx="58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b217f7"/>
                </a:solidFill>
                <a:latin typeface="Arial"/>
              </a:rPr>
              <a:t>Дякую за увагу</a:t>
            </a:r>
            <a:r>
              <a:rPr b="1" i="1" lang="ru-RU" sz="6000" spc="-1" strike="noStrike">
                <a:solidFill>
                  <a:srgbClr val="b217f7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124600" y="2502000"/>
            <a:ext cx="4019400" cy="2612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377053_271366082919685_100001388857120_770372_125468809_n"/>
          <p:cNvPicPr/>
          <p:nvPr/>
        </p:nvPicPr>
        <p:blipFill>
          <a:blip r:embed="rId2"/>
          <a:stretch/>
        </p:blipFill>
        <p:spPr>
          <a:xfrm>
            <a:off x="303120" y="1512720"/>
            <a:ext cx="2827440" cy="38116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0" y="0"/>
            <a:ext cx="9144000" cy="588960"/>
            <a:chOff x="0" y="0"/>
            <a:chExt cx="9144000" cy="588960"/>
          </a:xfrm>
        </p:grpSpPr>
        <p:graphicFrame>
          <p:nvGraphicFramePr>
            <p:cNvPr id="142" name="Object 6"/>
            <p:cNvGraphicFramePr/>
            <p:nvPr/>
          </p:nvGraphicFramePr>
          <p:xfrm>
            <a:off x="8244000" y="0"/>
            <a:ext cx="900000" cy="588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00" y="0"/>
                      <a:ext cx="900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Text Box 7"/>
            <p:cNvSpPr/>
            <p:nvPr/>
          </p:nvSpPr>
          <p:spPr>
            <a:xfrm>
              <a:off x="0" y="0"/>
              <a:ext cx="802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Центр соціально-економічних досліджень CASE Украї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45" name="Object 8"/>
          <p:cNvGraphicFramePr/>
          <p:nvPr/>
        </p:nvGraphicFramePr>
        <p:xfrm>
          <a:off x="393840" y="5735520"/>
          <a:ext cx="895320" cy="9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840" y="5735520"/>
                    <a:ext cx="8953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"/>
          <p:cNvGraphicFramePr/>
          <p:nvPr/>
        </p:nvGraphicFramePr>
        <p:xfrm>
          <a:off x="4030560" y="4646520"/>
          <a:ext cx="105732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0560" y="4646520"/>
                    <a:ext cx="1057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"/>
          <p:cNvGraphicFramePr/>
          <p:nvPr/>
        </p:nvGraphicFramePr>
        <p:xfrm>
          <a:off x="6508800" y="5180040"/>
          <a:ext cx="96192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08800" y="5180040"/>
                    <a:ext cx="961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1"/>
          <p:cNvSpPr/>
          <p:nvPr/>
        </p:nvSpPr>
        <p:spPr>
          <a:xfrm>
            <a:off x="3703680" y="5522760"/>
            <a:ext cx="1709640" cy="1335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 flipV="1">
            <a:off x="252360" y="4162320"/>
            <a:ext cx="8613720" cy="2695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258840" y="5472000"/>
            <a:ext cx="8601120" cy="47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252360" y="4162320"/>
            <a:ext cx="8613720" cy="2695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16"/>
          <p:cNvGrpSpPr/>
          <p:nvPr/>
        </p:nvGrpSpPr>
        <p:grpSpPr>
          <a:xfrm>
            <a:off x="4559400" y="4249800"/>
            <a:ext cx="585720" cy="728640"/>
            <a:chOff x="4559400" y="4249800"/>
            <a:chExt cx="585720" cy="728640"/>
          </a:xfrm>
        </p:grpSpPr>
        <p:graphicFrame>
          <p:nvGraphicFramePr>
            <p:cNvPr id="156" name="Object 17"/>
            <p:cNvGraphicFramePr/>
            <p:nvPr/>
          </p:nvGraphicFramePr>
          <p:xfrm>
            <a:off x="4559400" y="4249800"/>
            <a:ext cx="585720" cy="480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59400" y="4249800"/>
                      <a:ext cx="5857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18"/>
            <p:cNvSpPr/>
            <p:nvPr/>
          </p:nvSpPr>
          <p:spPr>
            <a:xfrm>
              <a:off x="5108400" y="4314960"/>
              <a:ext cx="0" cy="663480"/>
            </a:xfrm>
            <a:prstGeom prst="line">
              <a:avLst/>
            </a:prstGeom>
            <a:ln w="38160">
              <a:solidFill>
                <a:srgbClr val="ffb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0" y="0"/>
            <a:ext cx="82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Ми - ПЕРЕХІДНА краї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3263760" y="2489040"/>
            <a:ext cx="3086280" cy="990720"/>
          </a:xfrm>
          <a:prstGeom prst="leftArrow">
            <a:avLst>
              <a:gd name="adj1" fmla="val 50000"/>
              <a:gd name="adj2" fmla="val 77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0" y="2876400"/>
            <a:ext cx="2997360" cy="2298600"/>
            <a:chOff x="0" y="2876400"/>
            <a:chExt cx="2997360" cy="2298600"/>
          </a:xfrm>
        </p:grpSpPr>
        <p:pic>
          <p:nvPicPr>
            <p:cNvPr id="162" name="Picture 25" descr="1293545459_by_yournick_500"/>
            <p:cNvPicPr/>
            <p:nvPr/>
          </p:nvPicPr>
          <p:blipFill>
            <a:blip r:embed="rId13"/>
            <a:stretch/>
          </p:blipFill>
          <p:spPr>
            <a:xfrm>
              <a:off x="0" y="2876400"/>
              <a:ext cx="2997360" cy="22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26"/>
            <p:cNvSpPr/>
            <p:nvPr/>
          </p:nvSpPr>
          <p:spPr>
            <a:xfrm>
              <a:off x="0" y="4667040"/>
              <a:ext cx="2948040" cy="50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РИВІЛЕ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завжди пов'язані з обмеженням чиїхось пра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" name="Picture 27" descr=""/>
          <p:cNvPicPr/>
          <p:nvPr/>
        </p:nvPicPr>
        <p:blipFill>
          <a:blip r:embed="rId14"/>
          <a:stretch/>
        </p:blipFill>
        <p:spPr>
          <a:xfrm>
            <a:off x="4559400" y="914400"/>
            <a:ext cx="4564080" cy="7984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29"/>
          <p:cNvGrpSpPr/>
          <p:nvPr/>
        </p:nvGrpSpPr>
        <p:grpSpPr>
          <a:xfrm>
            <a:off x="317520" y="5113440"/>
            <a:ext cx="585720" cy="728640"/>
            <a:chOff x="317520" y="5113440"/>
            <a:chExt cx="585720" cy="728640"/>
          </a:xfrm>
        </p:grpSpPr>
        <p:graphicFrame>
          <p:nvGraphicFramePr>
            <p:cNvPr id="166" name="Object 30"/>
            <p:cNvGraphicFramePr/>
            <p:nvPr/>
          </p:nvGraphicFramePr>
          <p:xfrm>
            <a:off x="317520" y="5113440"/>
            <a:ext cx="585720" cy="480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7" name="Object 3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7520" y="5113440"/>
                      <a:ext cx="5857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Line 31"/>
            <p:cNvSpPr/>
            <p:nvPr/>
          </p:nvSpPr>
          <p:spPr>
            <a:xfrm>
              <a:off x="866520" y="5178600"/>
              <a:ext cx="0" cy="663480"/>
            </a:xfrm>
            <a:prstGeom prst="line">
              <a:avLst/>
            </a:prstGeom>
            <a:ln w="38160">
              <a:solidFill>
                <a:srgbClr val="ffb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6210360" y="4871880"/>
            <a:ext cx="585720" cy="728640"/>
            <a:chOff x="6210360" y="4871880"/>
            <a:chExt cx="585720" cy="728640"/>
          </a:xfrm>
        </p:grpSpPr>
        <p:graphicFrame>
          <p:nvGraphicFramePr>
            <p:cNvPr id="170" name="Object 33"/>
            <p:cNvGraphicFramePr/>
            <p:nvPr/>
          </p:nvGraphicFramePr>
          <p:xfrm>
            <a:off x="6210360" y="4871880"/>
            <a:ext cx="585720" cy="480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1" name="Object 3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10360" y="4871880"/>
                      <a:ext cx="5857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4"/>
            <p:cNvSpPr/>
            <p:nvPr/>
          </p:nvSpPr>
          <p:spPr>
            <a:xfrm>
              <a:off x="6759360" y="4937040"/>
              <a:ext cx="0" cy="663480"/>
            </a:xfrm>
            <a:prstGeom prst="line">
              <a:avLst/>
            </a:prstGeom>
            <a:ln w="38160">
              <a:solidFill>
                <a:srgbClr val="ffb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" name="Picture 35" descr="politic509"/>
          <p:cNvPicPr/>
          <p:nvPr/>
        </p:nvPicPr>
        <p:blipFill>
          <a:blip r:embed="rId19"/>
          <a:stretch/>
        </p:blipFill>
        <p:spPr>
          <a:xfrm>
            <a:off x="0" y="568440"/>
            <a:ext cx="3187800" cy="23320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7"/>
          <p:cNvGrpSpPr/>
          <p:nvPr/>
        </p:nvGrpSpPr>
        <p:grpSpPr>
          <a:xfrm>
            <a:off x="2452680" y="2184480"/>
            <a:ext cx="3605400" cy="2070000"/>
            <a:chOff x="2452680" y="2184480"/>
            <a:chExt cx="3605400" cy="2070000"/>
          </a:xfrm>
        </p:grpSpPr>
        <p:sp>
          <p:nvSpPr>
            <p:cNvPr id="175" name="AutoShape 21"/>
            <p:cNvSpPr/>
            <p:nvPr/>
          </p:nvSpPr>
          <p:spPr>
            <a:xfrm>
              <a:off x="2641680" y="2184480"/>
              <a:ext cx="3416400" cy="2070000"/>
            </a:xfrm>
            <a:prstGeom prst="leftArrow">
              <a:avLst>
                <a:gd name="adj1" fmla="val 61491"/>
                <a:gd name="adj2" fmla="val 4345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«РЕФОРМИ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Picture 36" descr="big-yanukovich"/>
            <p:cNvPicPr/>
            <p:nvPr/>
          </p:nvPicPr>
          <p:blipFill>
            <a:blip r:embed="rId20"/>
            <a:stretch/>
          </p:blipFill>
          <p:spPr>
            <a:xfrm>
              <a:off x="2452680" y="2654280"/>
              <a:ext cx="170028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AutoShape 15"/>
          <p:cNvSpPr/>
          <p:nvPr/>
        </p:nvSpPr>
        <p:spPr>
          <a:xfrm>
            <a:off x="3187800" y="3500280"/>
            <a:ext cx="2620800" cy="793800"/>
          </a:xfrm>
          <a:prstGeom prst="rightArrow">
            <a:avLst>
              <a:gd name="adj1" fmla="val 50000"/>
              <a:gd name="adj2" fmla="val 8254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ff"/>
                </a:solidFill>
                <a:latin typeface="Arial"/>
              </a:rPr>
              <a:t>МОДЕРНІЗАЦІ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8" descr=""/>
          <p:cNvPicPr/>
          <p:nvPr/>
        </p:nvPicPr>
        <p:blipFill>
          <a:blip r:embed="rId21"/>
          <a:stretch/>
        </p:blipFill>
        <p:spPr>
          <a:xfrm>
            <a:off x="4559400" y="1711440"/>
            <a:ext cx="3813120" cy="23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0" y="0"/>
            <a:ext cx="82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Які бувають рефор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2990880" y="697320"/>
            <a:ext cx="3137040" cy="459720"/>
          </a:xfrm>
          <a:prstGeom prst="rect">
            <a:avLst/>
          </a:prstGeom>
          <a:gradFill rotWithShape="0">
            <a:gsLst>
              <a:gs pos="0">
                <a:srgbClr val="63c1c1">
                  <a:alpha val="49019"/>
                </a:srgbClr>
              </a:gs>
              <a:gs pos="100000">
                <a:srgbClr val="0099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ідкривають досту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0" y="562680"/>
            <a:ext cx="2222640" cy="520560"/>
          </a:xfrm>
          <a:prstGeom prst="rect">
            <a:avLst/>
          </a:prstGeom>
          <a:gradFill rotWithShape="0">
            <a:gsLst>
              <a:gs pos="0">
                <a:srgbClr val="63c1c1">
                  <a:alpha val="49019"/>
                </a:srgbClr>
              </a:gs>
              <a:gs pos="100000">
                <a:srgbClr val="0099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ff00"/>
                </a:solidFill>
                <a:uFillTx/>
                <a:latin typeface="Arial"/>
              </a:rPr>
              <a:t>СИСТЕМН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0" y="3409200"/>
            <a:ext cx="7153200" cy="520560"/>
          </a:xfrm>
          <a:prstGeom prst="rect">
            <a:avLst/>
          </a:prstGeom>
          <a:gradFill rotWithShape="0">
            <a:gsLst>
              <a:gs pos="0">
                <a:srgbClr val="63c1c1">
                  <a:alpha val="49019"/>
                </a:srgbClr>
              </a:gs>
              <a:gs pos="100000">
                <a:srgbClr val="0099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00"/>
                </a:solidFill>
                <a:uFillTx/>
                <a:latin typeface="Arial"/>
              </a:rPr>
              <a:t>Технічні: покращують механіз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17"/>
          <p:cNvGrpSpPr/>
          <p:nvPr/>
        </p:nvGrpSpPr>
        <p:grpSpPr>
          <a:xfrm>
            <a:off x="0" y="0"/>
            <a:ext cx="9144000" cy="588960"/>
            <a:chOff x="0" y="0"/>
            <a:chExt cx="9144000" cy="588960"/>
          </a:xfrm>
        </p:grpSpPr>
        <p:graphicFrame>
          <p:nvGraphicFramePr>
            <p:cNvPr id="184" name="Object 18"/>
            <p:cNvGraphicFramePr/>
            <p:nvPr/>
          </p:nvGraphicFramePr>
          <p:xfrm>
            <a:off x="8244000" y="0"/>
            <a:ext cx="90000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44000" y="0"/>
                      <a:ext cx="900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Text Box 19"/>
            <p:cNvSpPr/>
            <p:nvPr/>
          </p:nvSpPr>
          <p:spPr>
            <a:xfrm>
              <a:off x="0" y="0"/>
              <a:ext cx="802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Центр соціально-економічних досліджень CASE Украї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7" name="Picture 20" descr="тройка"/>
          <p:cNvPicPr/>
          <p:nvPr/>
        </p:nvPicPr>
        <p:blipFill>
          <a:blip r:embed="rId3"/>
          <a:stretch/>
        </p:blipFill>
        <p:spPr>
          <a:xfrm>
            <a:off x="107784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авто"/>
          <p:cNvPicPr/>
          <p:nvPr/>
        </p:nvPicPr>
        <p:blipFill>
          <a:blip r:embed="rId4"/>
          <a:stretch/>
        </p:blipFill>
        <p:spPr>
          <a:xfrm>
            <a:off x="5392800" y="147636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22"/>
          <p:cNvSpPr/>
          <p:nvPr/>
        </p:nvSpPr>
        <p:spPr>
          <a:xfrm>
            <a:off x="4119480" y="2141640"/>
            <a:ext cx="878040" cy="312480"/>
          </a:xfrm>
          <a:prstGeom prst="rightArrow">
            <a:avLst>
              <a:gd name="adj1" fmla="val 50000"/>
              <a:gd name="adj2" fmla="val 70248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3" descr="тройка"/>
          <p:cNvPicPr/>
          <p:nvPr/>
        </p:nvPicPr>
        <p:blipFill>
          <a:blip r:embed="rId5"/>
          <a:stretch/>
        </p:blipFill>
        <p:spPr>
          <a:xfrm>
            <a:off x="5456160" y="42703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повозка"/>
          <p:cNvPicPr/>
          <p:nvPr/>
        </p:nvPicPr>
        <p:blipFill>
          <a:blip r:embed="rId6"/>
          <a:stretch/>
        </p:blipFill>
        <p:spPr>
          <a:xfrm>
            <a:off x="934920" y="4319640"/>
            <a:ext cx="2438640" cy="187632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5"/>
          <p:cNvSpPr/>
          <p:nvPr/>
        </p:nvSpPr>
        <p:spPr>
          <a:xfrm>
            <a:off x="4119480" y="5016600"/>
            <a:ext cx="878040" cy="312480"/>
          </a:xfrm>
          <a:prstGeom prst="rightArrow">
            <a:avLst>
              <a:gd name="adj1" fmla="val 50000"/>
              <a:gd name="adj2" fmla="val 70248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Реформи за 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Обмеженого доступ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slav_19"/>
          <p:cNvPicPr/>
          <p:nvPr/>
        </p:nvPicPr>
        <p:blipFill>
          <a:blip r:embed="rId2"/>
          <a:stretch/>
        </p:blipFill>
        <p:spPr>
          <a:xfrm>
            <a:off x="1969920" y="2930400"/>
            <a:ext cx="5335920" cy="39276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8b"/>
                </a:solidFill>
                <a:latin typeface="Arial"/>
                <a:ea typeface="Arial"/>
              </a:rPr>
              <a:t>Підривають джерела доходів можновладців, а разом і звичні для них засоби здійснення вл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0"/>
            <a:ext cx="68230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Реформи за 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Обмеженого доступ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8850960" y="6399720"/>
            <a:ext cx="36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0960" y="1219320"/>
            <a:ext cx="8722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7720" indent="-409320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ме тому б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льшість дій урядовців є псевдо-реформами, які аж ніяк не зачіпають суть пробле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201" name="Группа 8"/>
          <p:cNvGrpSpPr/>
          <p:nvPr/>
        </p:nvGrpSpPr>
        <p:grpSpPr>
          <a:xfrm>
            <a:off x="795240" y="2133720"/>
            <a:ext cx="7526520" cy="4373280"/>
            <a:chOff x="795240" y="2133720"/>
            <a:chExt cx="7526520" cy="4373280"/>
          </a:xfrm>
        </p:grpSpPr>
        <p:pic>
          <p:nvPicPr>
            <p:cNvPr id="202" name="Picture 2" descr="D:\boyarchuk\Administration\Projects\Monitoring_unit_TTF\Advert_for_the_project\Pics\0000z6gw.jpg"/>
            <p:cNvPicPr/>
            <p:nvPr/>
          </p:nvPicPr>
          <p:blipFill>
            <a:blip r:embed="rId2"/>
            <a:srcRect l="0" t="0" r="766" b="4063"/>
            <a:stretch/>
          </p:blipFill>
          <p:spPr>
            <a:xfrm>
              <a:off x="795240" y="2133720"/>
              <a:ext cx="7526520" cy="43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6"/>
            <p:cNvSpPr/>
            <p:nvPr/>
          </p:nvSpPr>
          <p:spPr>
            <a:xfrm>
              <a:off x="795240" y="5986440"/>
              <a:ext cx="752652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Проведено радикальну реформу “йолки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Реформи за 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Обмеженого доступ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0" y="1219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8b"/>
                </a:solidFill>
                <a:latin typeface="Arial"/>
                <a:ea typeface="Arial"/>
              </a:rPr>
              <a:t>Справжні реформи здебільшого просуваються завдяки “шкурним” інтересам, які запускають “ланцюгові реакції” подальших змі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6" descr="squirrel-nuts-store-acorn"/>
          <p:cNvPicPr/>
          <p:nvPr/>
        </p:nvPicPr>
        <p:blipFill>
          <a:blip r:embed="rId2"/>
          <a:stretch/>
        </p:blipFill>
        <p:spPr>
          <a:xfrm>
            <a:off x="1865160" y="2549520"/>
            <a:ext cx="53866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Фасадні” рефо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post-2-12722550747097вапр"/>
          <p:cNvPicPr/>
          <p:nvPr/>
        </p:nvPicPr>
        <p:blipFill>
          <a:blip r:embed="rId2"/>
          <a:stretch/>
        </p:blipFill>
        <p:spPr>
          <a:xfrm>
            <a:off x="2976480" y="3219480"/>
            <a:ext cx="3164040" cy="36385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0" y="131652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  <a:ea typeface="Arial"/>
              </a:rPr>
              <a:t>Гонитва за формальними індикатор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  <a:ea typeface="Arial"/>
              </a:rPr>
              <a:t>Вибіркове застос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  <a:ea typeface="Arial"/>
              </a:rPr>
              <a:t>Викривле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0" y="0"/>
            <a:ext cx="61340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Вертикаль влади” не може робити системні рефо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81160" y="1295280"/>
            <a:ext cx="2743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39720" indent="-57132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000080"/>
              </a:buClr>
              <a:buFont typeface="Wingdings" charset="2"/>
              <a:buChar char="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6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219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401040" indent="-343800" algn="ctr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Децентралізаці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343800" algn="ctr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Конкуренці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343800" algn="ctr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Прозорість та спрощ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343800" algn="ctr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Закони, за якими можна жи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moskitos"/>
          <p:cNvPicPr/>
          <p:nvPr/>
        </p:nvPicPr>
        <p:blipFill>
          <a:blip r:embed="rId2"/>
          <a:stretch/>
        </p:blipFill>
        <p:spPr>
          <a:xfrm>
            <a:off x="5205240" y="2768760"/>
            <a:ext cx="3938760" cy="4089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life_getting_complicated"/>
          <p:cNvPicPr/>
          <p:nvPr/>
        </p:nvPicPr>
        <p:blipFill>
          <a:blip r:embed="rId3"/>
          <a:stretch/>
        </p:blipFill>
        <p:spPr>
          <a:xfrm>
            <a:off x="0" y="2762280"/>
            <a:ext cx="3868560" cy="40957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9"/>
          <p:cNvSpPr/>
          <p:nvPr/>
        </p:nvSpPr>
        <p:spPr>
          <a:xfrm>
            <a:off x="4146480" y="4572000"/>
            <a:ext cx="777960" cy="380880"/>
          </a:xfrm>
          <a:prstGeom prst="rightArrow">
            <a:avLst>
              <a:gd name="adj1" fmla="val 50000"/>
              <a:gd name="adj2" fmla="val 510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281160" y="3124080"/>
            <a:ext cx="4290120" cy="3439800"/>
            <a:chOff x="281160" y="3124080"/>
            <a:chExt cx="4290120" cy="3439800"/>
          </a:xfrm>
        </p:grpSpPr>
        <p:sp>
          <p:nvSpPr>
            <p:cNvPr id="221" name="Freeform 11"/>
            <p:cNvSpPr/>
            <p:nvPr/>
          </p:nvSpPr>
          <p:spPr>
            <a:xfrm flipV="1">
              <a:off x="281160" y="3124080"/>
              <a:ext cx="4150080" cy="327672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 flipH="1" flipV="1">
              <a:off x="420840" y="3287160"/>
              <a:ext cx="4149720" cy="327636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4853160" y="2895480"/>
            <a:ext cx="4290120" cy="3439800"/>
            <a:chOff x="4853160" y="2895480"/>
            <a:chExt cx="4290120" cy="3439800"/>
          </a:xfrm>
        </p:grpSpPr>
        <p:sp>
          <p:nvSpPr>
            <p:cNvPr id="224" name="Freeform 14"/>
            <p:cNvSpPr/>
            <p:nvPr/>
          </p:nvSpPr>
          <p:spPr>
            <a:xfrm flipV="1">
              <a:off x="4853160" y="2895120"/>
              <a:ext cx="4150080" cy="327672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flipV="1">
              <a:off x="4993200" y="3058560"/>
              <a:ext cx="4149720" cy="327636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9:34:01Z</dcterms:created>
  <dc:creator>vid</dc:creator>
  <dc:description/>
  <dc:language>en-US</dc:language>
  <cp:lastModifiedBy>Dima</cp:lastModifiedBy>
  <dcterms:modified xsi:type="dcterms:W3CDTF">2012-10-25T12:44:41Z</dcterms:modified>
  <cp:revision>152</cp:revision>
  <dc:subject/>
  <dc:title>Слайд 1</dc:title>
</cp:coreProperties>
</file>